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6482-E70D-434F-895E-5BD3E512F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D3D1-E53B-4DF0-8D7F-DF9FA2E38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B2F3-6F09-4993-85AE-D6432154C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4406-7C05-4607-AB65-4519DDF79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AC89-60FC-4399-A082-1646A3E46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61E3-8A35-4B0F-BDA1-5013845AD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A123-3473-400A-B690-57CB992E3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E5B3-DBBD-4716-AA62-4E00C6E95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F840-A888-48BF-96C5-CD6584354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1426-E95A-4328-A6E5-2E6057B27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92DA-736B-470E-B529-C449E62B3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74D5-6524-41B8-A8C2-AC82D7054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8144-4C9C-403D-82D1-9A753210D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BEFB-8447-4F4B-ABB4-B2590CA57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B1C5-DA77-45BE-8081-81E0586B9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032A-25D5-497C-B354-4F8FA862E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AF3D-63E3-422E-9D7E-735FEC195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D492-F0B9-4570-9D41-1D0461CB0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FA763-AB54-417D-A041-67DFA03CF77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D25BB-0ACC-4E6F-8F49-EE554746F4F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4DDF4-70DF-47C8-84F6-4AC618719E6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A7FA3-9F5A-434C-A065-9764CA5A843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67739-9F43-4B5D-8D1B-68E543A029E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AC462-ECB6-4AC7-B205-70912546D85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16259-C6AA-4E8F-A16F-8E81D1E046A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9A336-6F4D-4024-8FE0-66949E17C14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7120B-0BBA-461E-AE13-0E640CE4B5D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A17C4-8157-4234-A838-8245878635E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D4F466-27DB-47E6-AB02-536AE9D95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83C7-D085-49AC-B29B-4F8BBCE2F5A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23C109-F44D-41F9-BA2E-BC07530D02D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5975E-4695-4E04-A607-0FD20EBE4DF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E4BA91-1D0D-4F53-9C20-AEB6E069ADE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55B384-CD97-401B-BB18-EE73CF5865E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0403D5-63D0-4D13-807F-AE4013469FA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BAB21A-82CE-4CE6-834A-005A8DB5F3D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DEDACE-50BA-4B70-B2EE-C45DB5CFF7F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91C0B3-5731-4052-831C-5CC367F9350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C6D5A-1E95-4F82-BFFB-7592028FD1F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70B228-61DC-473E-B626-8A90A3D08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9D5FB-6EBA-4F24-9455-22126D0480C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A1701A-0B92-4BC8-A5A8-40EC754B276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E113D7-0BFE-4C3A-B866-4B023883979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A562AC-87C6-40CD-9F60-05B2FD653B3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E8E96B-5D0E-4A9E-BC26-9277C9ED185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638AE8-8890-4204-8656-9973B16C345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CC4256-F689-45AC-AA45-21D4D6876CA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84553B-D1A6-432F-A9A1-265D78D35AB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311025-215F-4183-ABD5-9EB3324DEAF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557D8D-A080-4658-A0F1-7D7D1700DC2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0EA3A8-6F7B-4B00-965E-03CD280CC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97A78-091E-4692-9DAF-B2EE4B81250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A74F40-03F3-4FE8-873E-B15C36E7D9F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CD174E-60D9-46C8-A77A-71599F1E0B8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D498C7-C682-4A27-9330-028DF187F6E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8DC52-B30E-4F32-A4FC-03105BCE335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4CDDF-2A79-4334-A3CD-CE54BC9E9A4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7CEF1-933A-498B-A375-6F41B6EFBE1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BE641-9F28-4FD9-B3B7-FF7D9A3959A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3444F-B7DA-4D56-9A10-5EC90CC4F05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4B657-7279-4A9E-9B7E-811F5BBAA92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329E5-A294-4BA1-BCE7-08BE8DA941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33908-27DE-4B51-982F-842FC57529C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06EC6-785E-46E5-95C4-1A3B831AE3C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B5068-21E6-4471-A60B-36FF2D19898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C622C-5595-460C-A23C-8EC94642674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0C90C-0384-4C39-B4D0-D186678D5EF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2D2BB-AB5C-4535-B509-DC7F4ECEB3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4FF1B-1088-4862-8BD1-8D4110FF5D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7EC12-BF76-4A47-9C5A-74FF02FFE9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39727-93E8-4FD0-B16F-4655DFA49B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86DA7-77C1-4A98-9881-453E15F604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AC301-E2B3-4012-8A80-679CF36E8B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A59A6-1AD7-4614-A479-4F7D68E81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4E083-00CB-460D-BA7E-ABA0E85CB6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DF7B9-ADDC-46CD-B94B-313B32EE02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E9E7A-6423-4800-870A-BF54F85176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A3319-0DB4-4B29-AAB0-A5094752F6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83731-2D68-4C54-BA53-F44041F297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7DEA-B2FB-4BC5-BAB1-4D44301925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AB26-A464-493A-890C-DAA960E390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79F9-6C44-4025-A259-6C7A8285E1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5A1B-4DA9-4701-B9AA-0F6A09D555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E3E9-2291-402D-B5B1-5BBD49FE1C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36979-0517-4DE3-9B82-2F6B48E8C4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C0E8-972D-4E24-96E8-464A43F885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F569-CE48-4EB7-9E33-2D0E9DE2F8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F2D0-B72D-4E88-94FC-8EFD8A0F63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D997-028F-42CF-8EAC-3826787460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9F9B-84A4-4A79-847C-4FA1B4872E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19C8-9B80-4EF1-9C1E-44EEE9BD9E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F709-B19E-4704-801D-597EFE4A60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DF452-94F9-4887-9524-14E73EC3C8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43608-1BC6-4C4A-B5A4-726E25F7911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7424E-34F9-4B69-AF2B-89840E23E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80EAC-E96F-4641-9528-3A5FF2865E8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F3047-A6EB-44D7-9AF2-311764F8B4B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AAE82-16FB-475B-AB08-358818E8BD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AA702-C7C3-40E0-A72F-C16C5AC2B5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49F20B-EE9C-4FF0-9DB1-BF0205857F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D449A-4D2B-4394-A947-22B1A5BA8F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4092D-8F2A-4426-B1FF-904D90F63E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44EAB-9F11-46C4-810F-9B5E779CCB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F0748-60BC-4CA5-9EFE-0F956EE1AA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C11F4-7BD8-47B7-8A68-25C4F32F1E8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DDD849-0B9C-4195-ACC3-F2D769BF3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B62B-1634-42F1-8C5F-DB3DE377B60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13E967-EBBE-4610-9FF5-88AE478974E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89E3C-1CF3-4FDF-BC12-5C744BD8B5E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B5AAC-6F7C-4A21-B7AC-58EA9E3C60C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7581FC-3234-4183-AD14-0F0D6ECD782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6117B3-EE87-4229-853A-E67ABD195DE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7ECEE-C1B4-4F0E-82AB-9B9DA8BA1C0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576C89-72B4-4B4B-B634-5F20D84584F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FAFC3B-C839-4524-8F92-DA415ADEE31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E96BD1-E445-4476-953E-E5B016670B2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4A1AFC-C673-414E-BDA0-C63F47FB5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9FA25-0A6C-4C24-A4E8-F6B4E3E3F49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8E04E0-B9C1-49FB-B02C-155A34CD9BB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9D8E9-2056-4546-9DA4-E58FE970AD0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D623C-9ABC-4E8E-89FA-158A1E05214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08119-E92F-4D79-962D-F1CFDBA8858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48425-2757-49DE-BD49-365AE45CB9E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7B829-90CF-45E8-B79A-5AFF2446EA4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90B2F-2E97-44CC-BE85-2D70012F666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0C9F7-31DC-47EA-A19C-F65A6381319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935F8-945C-4057-BFB9-159ED2AC90A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F8771-03E3-475D-BD39-2FB8C8D96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12AAF-54D6-4A67-954B-616D9E09D95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61594-913E-423B-8A3B-F9C037951EF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3B23D-3C5D-400D-B4A7-6739B0E0B7A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02903-5B32-48AA-80EE-C063DDAB6A1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DEF364-F710-475F-AC40-E82998172EF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351D81-C5C8-4C87-A1F7-85A9D64EA4C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2F3CCE-328B-45DC-9AE0-CF0D19AAE92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79BAA-5489-4F92-9107-D1E95D4E1F9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2E06A-B691-4A56-9A8D-8439831688F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D3C45-4938-42E6-9933-26BB1F155C3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5AA40D-1F26-4F79-9B53-9959909D4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4CE09-B20C-4F95-A00B-26BBDA283B9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821A05-68FD-41F5-BC13-F7EE5D742C8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C8AAA-2311-4FCC-8AEA-A2FB6D9FE0E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021E02-25DB-4350-BDD5-D84A925E139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0B224-6DAC-4BF7-AC9E-8001A9C63E3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AB77A-12C8-49AC-BF35-FF7438CC00D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D3154E-D486-44E9-9F7E-2D9FED04F51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D6702A-C367-4DF3-AFFC-3EB85C85A60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FB65C2-C8A6-4955-8280-42F90F5A814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E8E22B-361B-45E3-9DE3-4F2790ECDA6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7F964A-2684-4916-B11E-9B2689B91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F5A4-7C40-4D6A-827D-1FBC2B55842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6926BC-8048-4EF7-B185-33419FB0D74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27DDB4-FB95-4730-A9C3-901F1D7E60B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85EDB6-1E21-4AA2-9AA7-1B4EAD93964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E5E69A-16F9-4619-9A03-156BA1E76EF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2FA742-8151-45EC-A5F4-D44DFD602B5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477E63-D3F5-4EF6-A713-EDB33810AC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ED67EF-BE3F-46F2-A8E3-DA9A19B8834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9379D-D1FD-462D-85C2-364463737F3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97D5A-9DA0-46F0-AAFD-0BA7DCDCB0A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D4242-5C51-40FF-99BF-FC7E849E1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3A4FBA48-4222-410B-82DD-3358411993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ftr" idx="1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1CFCE96B-8E9F-4F26-84F1-B1317A61F6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ftr" idx="2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E1802F96-0203-4C5E-B14B-F6EEDA01FB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ftr" idx="2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A79A2548-487C-46E4-AAA3-844FF50872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71596B2C-D262-4556-ACF2-DB482DB29D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28849C19-6647-4645-9B07-440874B9A6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710043AB-3417-4B54-B585-FD6B7664245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5E5F0B05-035C-4BBB-AA09-3371425D6D3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742E8281-ABED-41B0-BCD8-325C1B78DD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ftr" idx="1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463255BF-CEC4-442B-B70A-6C9B4728CF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A25E9898-38D1-4F0E-BDC4-55EFEFF527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5939EE74-7FB8-47B1-B445-62693196A9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BA50388D-AFE6-450F-B122-59D0DE28E21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682200" y="1622520"/>
            <a:ext cx="783900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ish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un is a word used to identify people, animals, places, things, or ideas. Unlike English, all Spanish nouns, even those that refer to non-living things, have gender; that is, they are considered either masculine or feminine. As in English, nouns in Spanish also have number, meaning that they are either singular or pl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3" descr="anteTodo"/>
          <p:cNvPicPr/>
          <p:nvPr/>
        </p:nvPicPr>
        <p:blipFill>
          <a:blip r:embed="rId1"/>
          <a:stretch/>
        </p:blipFill>
        <p:spPr>
          <a:xfrm>
            <a:off x="736560" y="2247840"/>
            <a:ext cx="167652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FA33934D-EC8F-4A21-B48D-F033E3F403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ural of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anish, nouns that end in a vowel form the plural by add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Nouns that end in a consonant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Nouns that en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c01l01_p013_02"/>
          <p:cNvPicPr/>
          <p:nvPr/>
        </p:nvPicPr>
        <p:blipFill>
          <a:blip r:embed="rId1"/>
          <a:stretch/>
        </p:blipFill>
        <p:spPr>
          <a:xfrm>
            <a:off x="304920" y="4275000"/>
            <a:ext cx="8555040" cy="13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17ACD72A-0CD3-41DC-AFA6-EEE259A79F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when a singular noun has an accent mark on the last syllable, the accent is dropped from the plural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" descr="c01l01_p013_03"/>
          <p:cNvPicPr/>
          <p:nvPr/>
        </p:nvPicPr>
        <p:blipFill>
          <a:blip r:embed="rId1"/>
          <a:stretch/>
        </p:blipFill>
        <p:spPr>
          <a:xfrm>
            <a:off x="457200" y="3149640"/>
            <a:ext cx="82296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AE7C0784-5AFF-4AB0-8931-6B52B823CF4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masculine plural form to refer to a group that includes both males and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c01l01_p013_04"/>
          <p:cNvPicPr/>
          <p:nvPr/>
        </p:nvPicPr>
        <p:blipFill>
          <a:blip r:embed="rId1"/>
          <a:stretch/>
        </p:blipFill>
        <p:spPr>
          <a:xfrm>
            <a:off x="457200" y="2793960"/>
            <a:ext cx="822960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7E22C61A-C293-4061-8964-2000FC5BD40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ish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know, English often uses definite article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indefinite articl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before nouns. Spanish also has definite and indefinite articles. Unlike English, Spanish articles vary in form because they agree in gender and number with the nouns they mod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anteTodo"/>
          <p:cNvPicPr/>
          <p:nvPr/>
        </p:nvPicPr>
        <p:blipFill>
          <a:blip r:embed="rId1"/>
          <a:stretch/>
        </p:blipFill>
        <p:spPr>
          <a:xfrm>
            <a:off x="736560" y="2247840"/>
            <a:ext cx="167652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26BF2403-0A6D-4502-8690-4F689FEEDBA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e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5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has four forms that are equivalent to the English definite artic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You use definite articles to refer to specific nou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3" descr="c01l01_p014_01"/>
          <p:cNvPicPr/>
          <p:nvPr/>
        </p:nvPicPr>
        <p:blipFill>
          <a:blip r:embed="rId1"/>
          <a:stretch/>
        </p:blipFill>
        <p:spPr>
          <a:xfrm>
            <a:off x="457200" y="2146320"/>
            <a:ext cx="8229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C8BC4F61-9A3A-44A2-9AA9-4492067F2D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finite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222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ish has four forms that are equivalent to the English indefinite article, which according to context may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You use indefinite articles to refer to unspecified persons or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c01l01_p014_02"/>
          <p:cNvPicPr/>
          <p:nvPr/>
        </p:nvPicPr>
        <p:blipFill>
          <a:blip r:embed="rId1"/>
          <a:stretch/>
        </p:blipFill>
        <p:spPr>
          <a:xfrm>
            <a:off x="457200" y="2082960"/>
            <a:ext cx="82296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0162C0C2-CC7C-4EA9-995D-2BC07FE09A7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685800" y="2120760"/>
          <a:ext cx="7772400" cy="4264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591560">
                <a:tc gridSpan="2"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a definite article for each noun in the first column and an indefinite article for each noun in the second column. The first item has been done for you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264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ch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ch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mal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cuader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lápi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muje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autobú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escuel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computador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homb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señor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láp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545" name="Text Box 147"/>
          <p:cNvSpPr/>
          <p:nvPr/>
        </p:nvSpPr>
        <p:spPr>
          <a:xfrm>
            <a:off x="1418400" y="376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Comic Sans MS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66" descr="intentalo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199"/>
          <p:cNvSpPr/>
          <p:nvPr/>
        </p:nvSpPr>
        <p:spPr>
          <a:xfrm>
            <a:off x="5330880" y="376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13"/>
          <p:cNvSpPr/>
          <p:nvPr/>
        </p:nvSpPr>
        <p:spPr>
          <a:xfrm>
            <a:off x="838080" y="3363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el, la, los o l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214"/>
          <p:cNvSpPr/>
          <p:nvPr/>
        </p:nvSpPr>
        <p:spPr>
          <a:xfrm>
            <a:off x="838080" y="3317760"/>
            <a:ext cx="3124440" cy="457200"/>
          </a:xfrm>
          <a:prstGeom prst="flowChartTerminator">
            <a:avLst/>
          </a:prstGeom>
          <a:noFill/>
          <a:ln w="25560">
            <a:solidFill>
              <a:srgbClr val="e69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16"/>
          <p:cNvSpPr/>
          <p:nvPr/>
        </p:nvSpPr>
        <p:spPr>
          <a:xfrm>
            <a:off x="4673520" y="3361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un, una, unos o un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17"/>
          <p:cNvSpPr/>
          <p:nvPr/>
        </p:nvSpPr>
        <p:spPr>
          <a:xfrm>
            <a:off x="4673520" y="3317760"/>
            <a:ext cx="3048120" cy="457200"/>
          </a:xfrm>
          <a:prstGeom prst="flowChartTerminator">
            <a:avLst/>
          </a:prstGeom>
          <a:noFill/>
          <a:ln w="25560">
            <a:solidFill>
              <a:srgbClr val="e69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D6D12A8F-3CCB-4835-B50C-BD1A1AB2B08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c01l01_p012_01"/>
          <p:cNvPicPr/>
          <p:nvPr/>
        </p:nvPicPr>
        <p:blipFill>
          <a:blip r:embed="rId1"/>
          <a:stretch/>
        </p:blipFill>
        <p:spPr>
          <a:xfrm>
            <a:off x="469800" y="1587600"/>
            <a:ext cx="82044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0192890E-FE08-4747-898D-9E60151995D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shown above, nouns that ref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les, li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homb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masculine, while nou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refer to females, li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muj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generally femin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C9F88143-8D55-4A33-96BA-BD6E1099BCA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nouns that refer to male beings en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ir corresponding feminine forms en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pectivel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3" descr="c01l01_p012_02"/>
          <p:cNvPicPr/>
          <p:nvPr/>
        </p:nvPicPr>
        <p:blipFill>
          <a:blip r:embed="rId1"/>
          <a:stretch/>
        </p:blipFill>
        <p:spPr>
          <a:xfrm>
            <a:off x="865080" y="3146400"/>
            <a:ext cx="74138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F6519734-FDA0-4507-9D18-CD02F2892D1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culine and feminine form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ns that en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i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i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i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, so gender is indicated by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asculine)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eminine). Some other nouns have identical masculine and feminine fo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" descr="c01l01_p012_03"/>
          <p:cNvPicPr/>
          <p:nvPr/>
        </p:nvPicPr>
        <p:blipFill>
          <a:blip r:embed="rId1"/>
          <a:stretch/>
        </p:blipFill>
        <p:spPr>
          <a:xfrm>
            <a:off x="635040" y="4381560"/>
            <a:ext cx="788508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98A88CF5-0CDF-4776-9C44-F925025D6F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01l01_p013_01"/>
          <p:cNvPicPr/>
          <p:nvPr/>
        </p:nvPicPr>
        <p:blipFill>
          <a:blip r:embed="rId1"/>
          <a:stretch/>
        </p:blipFill>
        <p:spPr>
          <a:xfrm>
            <a:off x="1079640" y="1536840"/>
            <a:ext cx="69976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1EC568B7-7890-495E-A435-66C641B39DC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noun endings are strongly associated with a specific gender, so you can use them to determine if a noun is masculine or femin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24A24C5A-EBC5-40B7-A7BF-B2BCF3F62EC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gender of nouns that refer to non-living things cannot be determined by foolproof rules, you should memorize the gender of each noun you learn. It is helpful to memorize each noun with its corresponding articl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sculine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femin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4A3307DD-3495-4244-A3FD-B32F7E4CC50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reason to memorize the gender of every noun is that there are common exceptions to the rules of gender. For exampl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map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dí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n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are masculine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ma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nds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is femin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MVLHS</cp:lastModifiedBy>
  <dcterms:modified xsi:type="dcterms:W3CDTF">2010-09-07T16:27:39Z</dcterms:modified>
  <cp:revision>42</cp:revision>
  <dc:subject/>
  <dc:title>PowerPoint Presentation</dc:title>
</cp:coreProperties>
</file>